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94960" y="73188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26460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779640" y="9264600"/>
            <a:ext cx="2889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2401-54CC-4CA0-9B9C-C2753669C0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8953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onde sea necesario, recordar a los participantes los mensajes cl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nsajes Cl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Un buen gobierno ayuda a los países ricos en petróleo, gas y minerales a traducir esa riqueza en crecimiento económico y reducción de la pobreza. Cuando el gobierno es débil, estos recursos pueden actuar como una "maldición" que resulta en mala gestión, corrupción, pobreza y conflict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 Iniciativa por la Transparencia de las Industrias Extractivas (ITIE/EITI) aboga por la transparencia sobre los ingresos - ofreciendo un enfoque sólido y flexible para conciliar los pagos de la industria con los ingresos del gobiern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nformar a los participante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que ellos también recibirán un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uestionario de seguimiento.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El propósito es medir la eficacia del evento de capacitación, después de que hayan regresado a sus lugares de trabajo. Llegará después de un hito importante en la sociedad civil y/o un plan de trabajo de la ITIE/EITI, tal como la publicación de un informe final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FAA9-36A9-4586-A23A-7632D6CE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902A-EFDD-43AB-81D9-8EA5A4A2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EC67-586A-4E95-89B1-EC428F34B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13A4-6F39-46CE-BDB5-46FA2F52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1FAF-D60E-44A9-AB2E-FC0D3676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80ED-5CD2-46F5-BB51-7237AFC4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58D8-C9D6-439C-88E5-1D85FD1B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516E-8CAA-4D5C-92F3-F2A35D9E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8EEF-DC2D-4058-AFCC-D023B1F9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E030-92C1-4413-9F74-D728EF6A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F592-53FB-4195-AB04-DB0DAB6C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410D-96CF-4D60-AF4F-0B55E731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CDD0-B5ED-4F36-B14D-47EA3A61D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_UNSSC_pantone_660_small"/>
          <p:cNvPicPr/>
          <p:nvPr/>
        </p:nvPicPr>
        <p:blipFill>
          <a:blip r:embed="rId2"/>
          <a:stretch/>
        </p:blipFill>
        <p:spPr>
          <a:xfrm>
            <a:off x="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Dinámica: </a:t>
            </a:r>
            <a:br>
              <a:rPr sz="4400"/>
            </a:b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Gran Concurso EBDH-GB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123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pósit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fundir y sorprender a tus colega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Instruccion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7920" y="907560"/>
            <a:ext cx="84088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 grupos ... (15 m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criba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inco pregunta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obre el EBDH y GBR que dejen perplejos a sus coleg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s preguntas pueden estar formuladas en cualquier for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dadero/falso, tipo test, nar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jemp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¿Cuáles son lo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es principios más normativos, en orden invers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¿Cuáles son las tres obligaciones de los titulares de obligacion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r un ejemplo sencillo usando 'vivienda‘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¿Cuál es la sigla oficial del "Examen Periódico Universal" en francés y en españo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¿Cuál es el Día de los Derechos Humanos, y qué conmemor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mbre tres instrumentos regionales (¡es una pregunta con trampa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¿Quién aparece con más frecuencia en imágenes sosteniendo la Declaración Universa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pare sus 5 preguntas en un rotafolios - mantenerlo ocu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¡A divertirse!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900" spc="-1" strike="noStrike">
                <a:solidFill>
                  <a:srgbClr val="0000ff"/>
                </a:solidFill>
                <a:latin typeface="Arial"/>
              </a:rPr>
              <a:t>Evaluación</a:t>
            </a:r>
            <a:endParaRPr b="1" lang="en-US" sz="59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Graci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09:07:36Z</dcterms:created>
  <dc:creator>goodale</dc:creator>
  <dc:description/>
  <dc:language>en-US</dc:language>
  <cp:lastModifiedBy>OHCHR</cp:lastModifiedBy>
  <dcterms:modified xsi:type="dcterms:W3CDTF">2011-03-19T16:33:53Z</dcterms:modified>
  <cp:revision>785</cp:revision>
  <dc:subject/>
  <dc:title>PowerPoint Presentation</dc:title>
</cp:coreProperties>
</file>